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8.jpeg" ContentType="image/jpeg"/>
  <Override PartName="/ppt/media/image9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5.gif" ContentType="image/gif"/>
  <Override PartName="/ppt/media/image3.wmf" ContentType="image/x-wmf"/>
  <Override PartName="/ppt/media/image2.png" ContentType="image/png"/>
  <Override PartName="/ppt/media/image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.jpeg" ContentType="image/jpe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5.gif" ContentType="image/gif"/>
  <Override PartName="/ppt/media/image17.wmf" ContentType="image/x-wmf"/>
  <Override PartName="/ppt/media/image16.jpeg" ContentType="image/jpeg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B1B6-5BFA-4F8B-9D8C-DC784305C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E50F-24AF-47C7-9BB3-74FE264DF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D7EA-6CCD-48F0-9528-F99EC9AF1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489D-FB46-4903-A73E-882D151B5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26C0-F61A-49C6-93BB-4DF88F8FF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241E-20B4-43D3-9454-12FC0935F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945A-3B50-4798-A70D-5468A537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D997-BA5B-4365-95E9-C19AFDF6F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94D5-CC7E-457C-8B77-13B212F6D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062D-2F18-451E-88BA-72DD789CF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351B-ADEA-44A4-BEB4-AD6CD15F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B151-648F-4225-818F-2770D7A7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216F-77B9-434E-AD2C-B72259B9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7CBA-9641-43D7-BA2F-FCF83FBD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6D33-7634-4730-95EE-A6861829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3C07-3AB7-44FD-97C1-E65E4FBD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C721-C2BB-43E3-BE35-9BD1198F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58EA-7A9F-4D6B-928E-5D5810A2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6E84-5B94-4890-88F6-A2953194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7425-EB3F-4E4F-AAC4-DF878F6C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8AA1-1318-4FF4-985C-7506E5C5B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04F1-CD41-4350-8D59-5DA79C4AF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E88F-F620-4E52-86A4-24FA4A62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51CE-2952-42CB-9309-422296C1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F8D6-1262-4523-AB93-00B3FC9F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DDD3-FD4D-4916-97FA-6F9E0BAC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92E5-522E-4D68-A029-ECACE6C6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56AD-7E2D-4B3E-B4D4-A9ABC319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1272-F1D5-43E8-92E6-E08B1294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4A06-5E4A-4D2B-A847-E4A24AE9AC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AE1E-EBA0-4E35-88A8-792CE2DCEBF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The Canterbury Tale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00"/>
                </a:solidFill>
                <a:latin typeface="Times New Roman"/>
              </a:rPr>
              <a:t>Pilgrim Analy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ergeant-at-Law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traits – None gi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essions – Multi-colored coat; silken belt; owned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s – Could recall every word &amp; comma of every judgment since King William; cautious; wise; elected for t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inion – He is a good lawyer, but he makes people think he is wiser than he really 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C:\Documents and Settings\tvest\Local Settings\Temporary Internet Files\Content.IE5\MXO70KCS\MCj02876240000[1].wmf"/>
          <p:cNvPicPr/>
          <p:nvPr/>
        </p:nvPicPr>
        <p:blipFill>
          <a:blip r:embed="rId1"/>
          <a:stretch/>
        </p:blipFill>
        <p:spPr>
          <a:xfrm>
            <a:off x="6705720" y="533520"/>
            <a:ext cx="19461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Frankli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traits – White beard; ruddy complex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essions – Dag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s – Spent $$ freely; lived for pleasure; enjoyed good food, fine wine, and pleasant company; kind; gracious; not of noble bi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inion – He is a partier and is well liked by the other pilgri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4" descr="C:\Documents and Settings\tvest\Local Settings\Temporary Internet Files\Content.IE5\LXVK7LTN\MPj04364290000[1].jpg"/>
          <p:cNvPicPr/>
          <p:nvPr/>
        </p:nvPicPr>
        <p:blipFill>
          <a:blip r:embed="rId1"/>
          <a:stretch/>
        </p:blipFill>
        <p:spPr>
          <a:xfrm>
            <a:off x="7010280" y="533520"/>
            <a:ext cx="190656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Haberdasher, Dyer, Weaver, Carpenter, Carpet Maker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traits – Freshly sha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essions – Luxurious clothing; silver kn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s – Proud of association with their guilds; went to church to be s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inion – They are proud of their skills, and they like to show off their wealth and guild member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3" descr="C:\Documents and Settings\tvest\Local Settings\Temporary Internet Files\Content.IE5\LCC4J7I6\MCj02406450000[1].wmf"/>
          <p:cNvPicPr/>
          <p:nvPr/>
        </p:nvPicPr>
        <p:blipFill>
          <a:blip r:embed="rId1"/>
          <a:stretch/>
        </p:blipFill>
        <p:spPr>
          <a:xfrm>
            <a:off x="6477120" y="533520"/>
            <a:ext cx="1369800" cy="1116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C:\Documents and Settings\tvest\Local Settings\Temporary Internet Files\Content.IE5\UYN64E12\MCPE06380_0000[1].wmf"/>
          <p:cNvPicPr/>
          <p:nvPr/>
        </p:nvPicPr>
        <p:blipFill>
          <a:blip r:embed="rId2"/>
          <a:stretch/>
        </p:blipFill>
        <p:spPr>
          <a:xfrm>
            <a:off x="7924680" y="609480"/>
            <a:ext cx="822600" cy="124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C:\Documents and Settings\tvest\Local Settings\Temporary Internet Files\Content.IE5\DUQEUR3W\MCj02957510000[1].wmf"/>
          <p:cNvPicPr/>
          <p:nvPr/>
        </p:nvPicPr>
        <p:blipFill>
          <a:blip r:embed="rId3"/>
          <a:stretch/>
        </p:blipFill>
        <p:spPr>
          <a:xfrm>
            <a:off x="7543800" y="1981080"/>
            <a:ext cx="1295280" cy="1187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C:\Documents and Settings\tvest\Local Settings\Temporary Internet Files\Content.IE5\56L17W2H\MCIN00295_0000[1].wmf"/>
          <p:cNvPicPr/>
          <p:nvPr/>
        </p:nvPicPr>
        <p:blipFill>
          <a:blip r:embed="rId4"/>
          <a:stretch/>
        </p:blipFill>
        <p:spPr>
          <a:xfrm>
            <a:off x="7772400" y="3276720"/>
            <a:ext cx="118116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ook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traits – Has a running sore on his l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essions – None gi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s – Can bake, boil, roast, or fry; best dish is blancmange (white fo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inion – He is a great cook, but his sore is a turn of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C:\Documents and Settings\tvest\Local Settings\Temporary Internet Files\Content.IE5\MXO70KCS\MMj02951630000[1].gif"/>
          <p:cNvPicPr/>
          <p:nvPr/>
        </p:nvPicPr>
        <p:blipFill>
          <a:blip r:embed="rId1"/>
          <a:stretch/>
        </p:blipFill>
        <p:spPr>
          <a:xfrm>
            <a:off x="6858000" y="609480"/>
            <a:ext cx="1268280" cy="1179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C:\Documents and Settings\tvest\Local Settings\Temporary Internet Files\Content.IE5\1DBOEHX0\MPj04339680000[1].jpg"/>
          <p:cNvPicPr/>
          <p:nvPr/>
        </p:nvPicPr>
        <p:blipFill>
          <a:blip r:embed="rId2"/>
          <a:stretch/>
        </p:blipFill>
        <p:spPr>
          <a:xfrm>
            <a:off x="3581280" y="4800600"/>
            <a:ext cx="205740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kipp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traits – Huge; uncouth; tan from years of sai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essions – A gown that reached his kn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s – Rode a farmer’s house; reads the stars; steals wine while traders sleep; fights well; makes prisoners walk the pla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inions – He doesn’t fit in well with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3" descr="C:\Documents and Settings\tvest\Local Settings\Temporary Internet Files\Content.IE5\LCC4J7I6\MCj01505590000[1].wmf"/>
          <p:cNvPicPr/>
          <p:nvPr/>
        </p:nvPicPr>
        <p:blipFill>
          <a:blip r:embed="rId1"/>
          <a:stretch/>
        </p:blipFill>
        <p:spPr>
          <a:xfrm>
            <a:off x="7391520" y="609480"/>
            <a:ext cx="1366560" cy="14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Docto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traits – None g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essions – Has a lot of $$ but doesn’t spend it; gold; blood-red gar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 – Knew astronomy; spoke well about medicine; in league with the druggists; didn’t read the B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nion – He seems to know what he is talking about, but he practices medicine for the money.  He is not hon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C:\Documents and Settings\tvest\Local Settings\Temporary Internet Files\Content.IE5\P5BNJ3Q1\MCj04360090000[1].wmf"/>
          <p:cNvPicPr/>
          <p:nvPr/>
        </p:nvPicPr>
        <p:blipFill>
          <a:blip r:embed="rId1"/>
          <a:stretch/>
        </p:blipFill>
        <p:spPr>
          <a:xfrm>
            <a:off x="7391520" y="609480"/>
            <a:ext cx="133020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ife of Bath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traits – Somewhat deaf; gap between her teeth; large 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essions – Scarlet-red stock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s – Excellent seamstress &amp; weaver; first at altar to make contribution; married 5 times; laughs; jokes; enjoys fellow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inion – She is an independent woman who knows what she wants in a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2" descr="C:\Documents and Settings\tvest\Local Settings\Temporary Internet Files\Content.IE5\MXO70KCS\MCj00835130000[1].wmf"/>
          <p:cNvPicPr/>
          <p:nvPr/>
        </p:nvPicPr>
        <p:blipFill>
          <a:blip r:embed="rId1"/>
          <a:stretch/>
        </p:blipFill>
        <p:spPr>
          <a:xfrm>
            <a:off x="7620120" y="685800"/>
            <a:ext cx="1071360" cy="12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ars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traits – None gi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essions – Very poor; has a sta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s – Spiritually rich; social status didn’t ma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inion – He is the ideal Christian m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3" descr="C:\Documents and Settings\tvest\Local Settings\Temporary Internet Files\Content.IE5\P5BNJ3Q1\MCSO02472_0000[1].wmf"/>
          <p:cNvPicPr/>
          <p:nvPr/>
        </p:nvPicPr>
        <p:blipFill>
          <a:blip r:embed="rId1"/>
          <a:stretch/>
        </p:blipFill>
        <p:spPr>
          <a:xfrm>
            <a:off x="6840360" y="609480"/>
            <a:ext cx="1793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lowma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traits – None gi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essions – A tabard smock; a m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s – Loved God; always honest; paid tithes; lived in perfect peace and cha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inion – He is an honest and godly m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3" descr="C:\Documents and Settings\tvest\Local Settings\Temporary Internet Files\Content.IE5\56L17W2H\MCj02874590000[1].wmf"/>
          <p:cNvPicPr/>
          <p:nvPr/>
        </p:nvPicPr>
        <p:blipFill>
          <a:blip r:embed="rId1"/>
          <a:stretch/>
        </p:blipFill>
        <p:spPr>
          <a:xfrm>
            <a:off x="6400800" y="533520"/>
            <a:ext cx="2332080" cy="14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Mill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traits – Big, brawny; short shouldered; broad; thick set; weighs 224 pounds; red beard; wart with hairs on his n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essions – White coat; blue hood; sword at his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s – Could outwrestle any man; loved to boast; told dirty stories; played bagpipes as the pilgrims left town; dishonest – put his thumb on the scale when selling g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inion – His is big, threatening, and dishon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2" descr="C:\Documents and Settings\tvest\Local Settings\Temporary Internet Files\Content.IE5\MXO70KCS\MCBD05181_0000[1].wmf"/>
          <p:cNvPicPr/>
          <p:nvPr/>
        </p:nvPicPr>
        <p:blipFill>
          <a:blip r:embed="rId1"/>
          <a:stretch/>
        </p:blipFill>
        <p:spPr>
          <a:xfrm>
            <a:off x="7238880" y="533520"/>
            <a:ext cx="156708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he Knigh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traits – n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essions – fine horse; worn cl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s – chivalrous; fought in many battles; modest (doesn’t brag); no outward show of weal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inion – a perfect gentleman who lives by the code of chival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5" descr="KnightonHorseback"/>
          <p:cNvPicPr/>
          <p:nvPr/>
        </p:nvPicPr>
        <p:blipFill>
          <a:blip r:embed="rId1"/>
          <a:stretch/>
        </p:blipFill>
        <p:spPr>
          <a:xfrm>
            <a:off x="6934320" y="685800"/>
            <a:ext cx="17334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Mancipl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traits – 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essions – None gi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s – Illiterate; outsmarts the educated by buying shrewdly &amp; keeping the extra; frugal; debt-f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inion – He is sly &amp; smart despite being illiter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3" descr="C:\Documents and Settings\tvest\Local Settings\Temporary Internet Files\Content.IE5\P5BNJ3Q1\MCBD07178_0000[1].wmf"/>
          <p:cNvPicPr/>
          <p:nvPr/>
        </p:nvPicPr>
        <p:blipFill>
          <a:blip r:embed="rId1"/>
          <a:stretch/>
        </p:blipFill>
        <p:spPr>
          <a:xfrm>
            <a:off x="7315200" y="762120"/>
            <a:ext cx="1279440" cy="10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Reev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traits – Skinny; long legs; close-cut beard; short 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essions – None gi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s – Skilled carpenter; bad temper; efficient; shrewd; feared by worked; rewarded by the master; last in the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inion – He is not friendly, and he is hard to work f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6" descr="C:\Documents and Settings\tvest\Local Settings\Temporary Internet Files\Content.IE5\UDL16J6R\MCj02502470000[1].wmf"/>
          <p:cNvPicPr/>
          <p:nvPr/>
        </p:nvPicPr>
        <p:blipFill>
          <a:blip r:embed="rId1"/>
          <a:stretch/>
        </p:blipFill>
        <p:spPr>
          <a:xfrm>
            <a:off x="7162920" y="685800"/>
            <a:ext cx="146664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ummon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traits – Fire-red complexion; pimples &amp; boils; scaly infection around eyebrows; moth-eaten b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essions – Garland on his head; dressed like a no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s – Feared by children; ate garlic, onions, leeks; drank strong wine; would ignore sins for a bottle of win; acquainted with women of questionable re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inion – He is ugly, dishonest, and easily bri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ardon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traits – Thin, yellow hair hung to shoulders; bulging eyeballs; couldn’t grow a be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essions – Holy relics; wal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 – Good at “preaching” &amp; collecting $$; sold useless pardons; fooled poor people, parsons, congreg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nion – He is a hypocrite who takes unfair advantage of others to make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Hos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traits – Very striking man; bright e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essions – None gi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s – Wise, full of tact; merry-hearted; jo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inion – None gi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3" descr="C:\Documents and Settings\tvest\Local Settings\Temporary Internet Files\Content.IE5\UYN64E12\MCBD05773_0000[1].wmf"/>
          <p:cNvPicPr/>
          <p:nvPr/>
        </p:nvPicPr>
        <p:blipFill>
          <a:blip r:embed="rId1"/>
          <a:stretch/>
        </p:blipFill>
        <p:spPr>
          <a:xfrm flipH="1">
            <a:off x="7620120" y="609480"/>
            <a:ext cx="977760" cy="11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he Squir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traits – curly hair; abo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 years old; average height; str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essions – short gown with long, wide sleeves; fl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 – courteous; lowly; serviceable; sang; played the flute; could joust and dance, draw and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nion – Young, concerned about his appearance, good with the la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" descr="Squire"/>
          <p:cNvPicPr/>
          <p:nvPr/>
        </p:nvPicPr>
        <p:blipFill>
          <a:blip r:embed="rId1"/>
          <a:stretch/>
        </p:blipFill>
        <p:spPr>
          <a:xfrm>
            <a:off x="6781680" y="609480"/>
            <a:ext cx="16480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he Yeoma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traits – brown face; head shaped like a n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essions – Medal of St. Christopher; bow &amp; arrow; spear, shield, sword; hunting ho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s – Expert woodsman; skilled in hunting; knew wood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inion – He is a faithful servant, a good hunter, and a good figh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2" descr="C:\Documents and Settings\tvest\Local Settings\Temporary Internet Files\Content.IE5\1DBOEHX0\MCj01160660000[1].wmf"/>
          <p:cNvPicPr/>
          <p:nvPr/>
        </p:nvPicPr>
        <p:blipFill>
          <a:blip r:embed="rId1"/>
          <a:stretch/>
        </p:blipFill>
        <p:spPr>
          <a:xfrm>
            <a:off x="6781680" y="380880"/>
            <a:ext cx="108612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riores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traits – Broad forehead; glass-gray eyes; elegant nose; small mou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essions – Gold brooch; jacket; coral trinkets; b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 – Neat &amp; tidy; spoke inferior French; coy, delicate, courteous; never dropped a morsel of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nion – She is more concerned about appearance &amp; worldly possessions than being a n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" descr="C:\Documents and Settings\tvest\Local Settings\Temporary Internet Files\Content.IE5\DUQEUR3W\MCj03362400000[1].wmf"/>
          <p:cNvPicPr/>
          <p:nvPr/>
        </p:nvPicPr>
        <p:blipFill>
          <a:blip r:embed="rId1"/>
          <a:stretch/>
        </p:blipFill>
        <p:spPr>
          <a:xfrm>
            <a:off x="6400800" y="457200"/>
            <a:ext cx="1297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Monk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traits – Fat; bald; good hearing; prominent eyeb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essions – several horses; finest saddles &amp; bridles; several hunting dogs; fine clothes with fur tr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 – Loved hunting, fine food; jolly, personable; loud; doesn’t like to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nion – He loves worldly pleasures, and he dislikes the quiet ways of the monast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2" descr="C:\Documents and Settings\tvest\Local Settings\Temporary Internet Files\Content.IE5\PPPANLD2\MMj03366710000[1].gif"/>
          <p:cNvPicPr/>
          <p:nvPr/>
        </p:nvPicPr>
        <p:blipFill>
          <a:blip r:embed="rId1"/>
          <a:stretch/>
        </p:blipFill>
        <p:spPr>
          <a:xfrm>
            <a:off x="6095880" y="533520"/>
            <a:ext cx="137952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Fria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traits – Strong, bul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essions – Harp; pocket knives; hooded ro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s – Helps girls get married; believes $$ clears sin faster than prayer; knows taverns &amp; inns better than leper ho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inion – He abuses his religious privileges by extorting money &amp; party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C:\Documents and Settings\tvest\Local Settings\Temporary Internet Files\Content.IE5\MXO70KCS\MCj01161280000[1].wmf"/>
          <p:cNvPicPr/>
          <p:nvPr/>
        </p:nvPicPr>
        <p:blipFill>
          <a:blip r:embed="rId1"/>
          <a:stretch/>
        </p:blipFill>
        <p:spPr>
          <a:xfrm>
            <a:off x="7696080" y="609480"/>
            <a:ext cx="91152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Merchan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traits – Forking be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essions – Multi-colored clothes; beaver hat; buckled boots; ho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s – Knows a good bargain; transacts business in a stately manner; really in de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inion – He appears to be a smart buisness man, but he is really in deb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" descr="C:\Documents and Settings\tvest\Local Settings\Temporary Internet Files\Content.IE5\1DBOEHX0\MCBD19909_0000[1].wmf"/>
          <p:cNvPicPr/>
          <p:nvPr/>
        </p:nvPicPr>
        <p:blipFill>
          <a:blip r:embed="rId1"/>
          <a:stretch/>
        </p:blipFill>
        <p:spPr>
          <a:xfrm>
            <a:off x="6934320" y="609480"/>
            <a:ext cx="160812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Oxford Cleric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traits – Thin; hollow look; sober (serious) st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essions – Threadbare clothes; thin horse; many boo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 – Would rather buy books than food or clothes; quiet but speaks with dignity; morally virtu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nion – He is very smart, decent, and morally conscio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C:\Documents and Settings\tvest\Local Settings\Temporary Internet Files\Content.IE5\UDL16J6R\MPj04395100000[1].jpg"/>
          <p:cNvPicPr/>
          <p:nvPr/>
        </p:nvPicPr>
        <p:blipFill>
          <a:blip r:embed="rId1"/>
          <a:stretch/>
        </p:blipFill>
        <p:spPr>
          <a:xfrm>
            <a:off x="6781680" y="609480"/>
            <a:ext cx="190656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22:46:12Z</dcterms:created>
  <dc:creator>Trina</dc:creator>
  <dc:description/>
  <dc:language>en-US</dc:language>
  <cp:lastModifiedBy>pcoles</cp:lastModifiedBy>
  <dcterms:modified xsi:type="dcterms:W3CDTF">2009-02-11T01:54:44Z</dcterms:modified>
  <cp:revision>25</cp:revision>
  <dc:subject/>
  <dc:title>The Canterbury Tales</dc:title>
</cp:coreProperties>
</file>